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gif" ContentType="image/gif"/>
  <Override PartName="/ppt/media/image7.wmf" ContentType="image/x-wmf"/>
  <Override PartName="/ppt/media/image5.gif" ContentType="image/gi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7C17-AEEA-49A0-9EDB-DAA07F46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EDAE-2304-4ACE-9FFC-40A9C513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AEAF-1606-41C3-951D-9EB80D7E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2C9F-45BC-4F40-B272-AEB6B9E4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2BF3-469A-41F5-AE65-8183713E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FE49-1ED2-4BB3-B579-2A0C756A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F5F6-D86B-4D0F-99FE-55B5D499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B3E7-972D-45DD-88A3-5348E722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7B09-4658-4940-9EE9-B1D83CB9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1379-277F-465A-B4EC-8A774DD9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6865-47B1-4947-B051-A328363C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1D45-CE11-488D-A8D8-198630AC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A1E0-4F9B-425F-B389-1A58041BE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36520" y="1591200"/>
            <a:ext cx="7988040" cy="2485440"/>
            <a:chOff x="236520" y="1591200"/>
            <a:chExt cx="7988040" cy="2485440"/>
          </a:xfrm>
        </p:grpSpPr>
        <p:cxnSp>
          <p:nvCxnSpPr>
            <p:cNvPr id="42" name="_s2086"/>
            <p:cNvCxnSpPr>
              <a:stCxn id="43" idx="1"/>
              <a:endCxn id="44" idx="2"/>
            </p:cNvCxnSpPr>
            <p:nvPr/>
          </p:nvCxnSpPr>
          <p:spPr>
            <a:xfrm rot="10800000">
              <a:off x="4835160" y="3367440"/>
              <a:ext cx="224640" cy="458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" name="_s2081"/>
            <p:cNvCxnSpPr>
              <a:stCxn id="46" idx="1"/>
              <a:endCxn id="47" idx="2"/>
            </p:cNvCxnSpPr>
            <p:nvPr/>
          </p:nvCxnSpPr>
          <p:spPr>
            <a:xfrm rot="10800000">
              <a:off x="2715120" y="3367440"/>
              <a:ext cx="224640" cy="458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2078"/>
            <p:cNvCxnSpPr>
              <a:stCxn id="49" idx="0"/>
              <a:endCxn id="50" idx="2"/>
            </p:cNvCxnSpPr>
            <p:nvPr/>
          </p:nvCxnSpPr>
          <p:spPr>
            <a:xfrm flipV="1" rot="16200000">
              <a:off x="5997960" y="2543040"/>
              <a:ext cx="207720" cy="613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2076"/>
            <p:cNvCxnSpPr>
              <a:stCxn id="44" idx="0"/>
              <a:endCxn id="50" idx="2"/>
            </p:cNvCxnSpPr>
            <p:nvPr/>
          </p:nvCxnSpPr>
          <p:spPr>
            <a:xfrm flipH="1" flipV="1" rot="5400000">
              <a:off x="5211360" y="2370240"/>
              <a:ext cx="207720" cy="959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2070"/>
            <p:cNvCxnSpPr>
              <a:stCxn id="47" idx="0"/>
              <a:endCxn id="53" idx="2"/>
            </p:cNvCxnSpPr>
            <p:nvPr/>
          </p:nvCxnSpPr>
          <p:spPr>
            <a:xfrm flipV="1" rot="16200000">
              <a:off x="2523600" y="2761560"/>
              <a:ext cx="207720" cy="176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2064"/>
            <p:cNvCxnSpPr>
              <a:stCxn id="55" idx="0"/>
              <a:endCxn id="53" idx="2"/>
            </p:cNvCxnSpPr>
            <p:nvPr/>
          </p:nvCxnSpPr>
          <p:spPr>
            <a:xfrm flipH="1" flipV="1" rot="5400000">
              <a:off x="1737000" y="2151360"/>
              <a:ext cx="207720" cy="1397160"/>
            </a:xfrm>
            <a:prstGeom prst="bentConnector5">
              <a:avLst>
                <a:gd name="adj1" fmla="val 111979"/>
                <a:gd name="adj2" fmla="val -64845"/>
                <a:gd name="adj3" fmla="val -3114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2060"/>
            <p:cNvCxnSpPr>
              <a:stCxn id="57" idx="0"/>
              <a:endCxn id="58" idx="2"/>
            </p:cNvCxnSpPr>
            <p:nvPr/>
          </p:nvCxnSpPr>
          <p:spPr>
            <a:xfrm flipV="1" rot="16200000">
              <a:off x="5814360" y="537840"/>
              <a:ext cx="208080" cy="3143160"/>
            </a:xfrm>
            <a:prstGeom prst="bentConnector5">
              <a:avLst>
                <a:gd name="adj1" fmla="val 111438"/>
                <a:gd name="adj2" fmla="val 49896"/>
                <a:gd name="adj3" fmla="val -1143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2059"/>
            <p:cNvCxnSpPr>
              <a:stCxn id="50" idx="0"/>
              <a:endCxn id="58" idx="2"/>
            </p:cNvCxnSpPr>
            <p:nvPr/>
          </p:nvCxnSpPr>
          <p:spPr>
            <a:xfrm flipV="1" rot="16200000">
              <a:off x="4966920" y="1384920"/>
              <a:ext cx="208080" cy="1448640"/>
            </a:xfrm>
            <a:prstGeom prst="bentConnector5">
              <a:avLst>
                <a:gd name="adj1" fmla="val 111438"/>
                <a:gd name="adj2" fmla="val -66766"/>
                <a:gd name="adj3" fmla="val -3682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2058"/>
            <p:cNvCxnSpPr>
              <a:stCxn id="53" idx="0"/>
              <a:endCxn id="58" idx="2"/>
            </p:cNvCxnSpPr>
            <p:nvPr/>
          </p:nvCxnSpPr>
          <p:spPr>
            <a:xfrm flipH="1" flipV="1" rot="5400000">
              <a:off x="3338640" y="1205640"/>
              <a:ext cx="208080" cy="1807920"/>
            </a:xfrm>
            <a:prstGeom prst="bentConnector5">
              <a:avLst>
                <a:gd name="adj1" fmla="val 111438"/>
                <a:gd name="adj2" fmla="val -53475"/>
                <a:gd name="adj3" fmla="val -3682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8" name="_s2054"/>
            <p:cNvSpPr/>
            <p:nvPr/>
          </p:nvSpPr>
          <p:spPr>
            <a:xfrm>
              <a:off x="3605400" y="1591200"/>
              <a:ext cx="1482480" cy="414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mest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2055"/>
            <p:cNvSpPr/>
            <p:nvPr/>
          </p:nvSpPr>
          <p:spPr>
            <a:xfrm>
              <a:off x="1804320" y="2213280"/>
              <a:ext cx="1469880" cy="532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ickl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calcium oxid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2056"/>
            <p:cNvSpPr/>
            <p:nvPr/>
          </p:nvSpPr>
          <p:spPr>
            <a:xfrm>
              <a:off x="5059800" y="2213280"/>
              <a:ext cx="1470240" cy="532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u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2057"/>
            <p:cNvSpPr/>
            <p:nvPr/>
          </p:nvSpPr>
          <p:spPr>
            <a:xfrm>
              <a:off x="6754680" y="2213280"/>
              <a:ext cx="1469880" cy="532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uilding mate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2063"/>
            <p:cNvSpPr/>
            <p:nvPr/>
          </p:nvSpPr>
          <p:spPr>
            <a:xfrm>
              <a:off x="468360" y="2953440"/>
              <a:ext cx="1348200" cy="414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ke chemic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069"/>
            <p:cNvSpPr/>
            <p:nvPr/>
          </p:nvSpPr>
          <p:spPr>
            <a:xfrm>
              <a:off x="2041560" y="2953440"/>
              <a:ext cx="1347840" cy="414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dd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75"/>
            <p:cNvSpPr/>
            <p:nvPr/>
          </p:nvSpPr>
          <p:spPr>
            <a:xfrm>
              <a:off x="4161600" y="2953440"/>
              <a:ext cx="1347840" cy="414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wde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2077"/>
            <p:cNvSpPr/>
            <p:nvPr/>
          </p:nvSpPr>
          <p:spPr>
            <a:xfrm>
              <a:off x="5734440" y="2953440"/>
              <a:ext cx="1348200" cy="414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680" rIns="7668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last furn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80"/>
            <p:cNvSpPr/>
            <p:nvPr/>
          </p:nvSpPr>
          <p:spPr>
            <a:xfrm>
              <a:off x="2939760" y="3575520"/>
              <a:ext cx="1670040" cy="501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laked l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calcium hydroxid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085"/>
            <p:cNvSpPr/>
            <p:nvPr/>
          </p:nvSpPr>
          <p:spPr>
            <a:xfrm>
              <a:off x="5059800" y="3575520"/>
              <a:ext cx="1670040" cy="501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ke Gla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1835280" y="1773360"/>
            <a:ext cx="165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ushed into lumps and HEA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56000" y="3933720"/>
            <a:ext cx="533160" cy="536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028000" y="1700280"/>
            <a:ext cx="352440" cy="650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948360" y="2781360"/>
            <a:ext cx="709920" cy="509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95280" y="2421000"/>
            <a:ext cx="512640" cy="619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484360" y="4365720"/>
            <a:ext cx="863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4076640"/>
            <a:ext cx="136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utralise acid soil and sewage trea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3203640" y="2781360"/>
            <a:ext cx="368280" cy="436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5003640" y="1628640"/>
            <a:ext cx="936720" cy="317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258920" y="1052640"/>
            <a:ext cx="633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 has many uses, ranging from building stone to being made into slaked lime and neutralising acid soils in farming.  Look at the diagram and answer the questions bel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4653000"/>
            <a:ext cx="76327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mestone is very useful and made into many different thing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cribe three things that must be done to limestone to make calcium hydrox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What does limestone help to make in a blast furn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Name two uses of calc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Name three other uses of limes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80360" y="3213000"/>
            <a:ext cx="122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mestone helps to make pur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n the blast furn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71640" y="404640"/>
            <a:ext cx="702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mportant uses of limesto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/>
          <p:nvPr/>
        </p:nvSpPr>
        <p:spPr>
          <a:xfrm>
            <a:off x="5219640" y="4005360"/>
            <a:ext cx="144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mestone is added to sand to make gl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885080" y="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0.4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659640" y="3500280"/>
            <a:ext cx="434880" cy="5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07:42:00Z</dcterms:created>
  <dc:creator>Education IT</dc:creator>
  <dc:description/>
  <dc:language>en-US</dc:language>
  <cp:lastModifiedBy>Education IT</cp:lastModifiedBy>
  <dcterms:modified xsi:type="dcterms:W3CDTF">2004-01-31T08:44:36Z</dcterms:modified>
  <cp:revision>6</cp:revision>
  <dc:subject/>
  <dc:title>Slide 1</dc:title>
</cp:coreProperties>
</file>